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21.jpeg" ContentType="image/jpeg"/>
  <Override PartName="/ppt/media/image32.wmf" ContentType="image/x-wmf"/>
  <Override PartName="/ppt/media/image17.wmf" ContentType="image/x-wmf"/>
  <Override PartName="/ppt/media/image6.wmf" ContentType="image/x-wmf"/>
  <Override PartName="/ppt/media/image19.jpeg" ContentType="image/jpeg"/>
  <Override PartName="/ppt/media/image20.jpeg" ContentType="image/jpeg"/>
  <Override PartName="/ppt/media/image7.wmf" ContentType="image/x-wmf"/>
  <Override PartName="/ppt/media/image12.wmf" ContentType="image/x-wmf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30.gif" ContentType="image/gif"/>
  <Override PartName="/ppt/media/image33.png" ContentType="image/png"/>
  <Override PartName="/ppt/media/image14.jpeg" ContentType="image/jpeg"/>
  <Override PartName="/ppt/media/image18.gif" ContentType="image/gif"/>
  <Override PartName="/ppt/media/image13.jpeg" ContentType="image/jpeg"/>
  <Override PartName="/ppt/media/image29.wmf" ContentType="image/x-wmf"/>
  <Override PartName="/ppt/media/image31.png" ContentType="image/png"/>
  <Override PartName="/ppt/media/image27.jpeg" ContentType="image/jpeg"/>
  <Override PartName="/ppt/media/image4.jpeg" ContentType="image/jpeg"/>
  <Override PartName="/ppt/media/image28.wmf" ContentType="image/x-wmf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25.wmf" ContentType="image/x-wmf"/>
  <Override PartName="/ppt/media/image15.jpeg" ContentType="image/jpeg"/>
  <Override PartName="/ppt/media/image5.wmf" ContentType="image/x-wmf"/>
  <Override PartName="/ppt/media/image1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20310-8A18-458C-B561-7651F382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5078-7232-449D-9693-2297BA2A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C0E12-28F0-4D01-93A5-3F9A84435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E07C-142A-4DF7-A8E1-FB010ADAB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47ECB-90E2-4DF3-B5EA-277E0FB57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42BD-996E-4B8B-A538-D370139EC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53802-AB58-4834-96F0-ECA0DAD69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BB6B-F0C7-455E-B39A-8CB45C81D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10A5F-B137-4D05-AA91-454BD9459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2BCB6-98E5-43C3-B04E-4C77CA577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92F8C-174A-43C8-AE71-3AE1BF084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2E09-52B0-4FD1-A5C9-627594D50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65078-D422-41DD-B58A-86767B9A6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3036E-DABC-46F5-9C06-F253B974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68594-61ED-474F-BFB6-34D8C35B5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4EBA8-7747-4FEE-8ADF-9BB92B56A5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1979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91160" y="160020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1979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91160" y="3964320"/>
            <a:ext cx="2183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540A6-2E04-4684-A9CF-878BD6A04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C658-E193-4F36-909A-AC98A59E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E7810-FD91-41B5-9467-4718E39E9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CE7B3-9327-476E-9F15-22E790D74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47920" y="380880"/>
            <a:ext cx="7238880" cy="480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03E9-6E8C-4AA5-BFCD-437985EF9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1D09-CE5D-4FC1-8DB7-BAF3EAEE5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380200" y="396432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1587-14AF-416A-B5CF-EF14380E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380200" y="1600200"/>
            <a:ext cx="3309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3964320"/>
            <a:ext cx="67816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31F7-F961-4261-8277-D550D17EA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55FD1-C018-4745-B315-8EA146E1B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162A6-CA40-4A7B-AA6D-0CF3BD83B1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heroicimages.net/toons/Resources/Images/batman_batman2.jpg&amp;imgrefurl=http://heroicimages.net/toons/batman.html&amp;h=600&amp;w=502&amp;sz=58&amp;tbnid=CFcY8FKSxeAJ:&amp;tbnh=133&amp;tbnw=111&amp;hl=en&amp;start=19&amp;prev=/images%3Fq%3Dbatman%26svnum%3D10%26hl%3Den%26lr%3D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al-islam.org/gallery/kids/Clipart/drawings/Mob.gif&amp;imgrefurl=http://al-islam.org/gallery/kids/Clipart/drawings/drawings.html&amp;h=671&amp;w=1093&amp;sz=45&amp;tbnid=n1GFLB2X-1kJ:&amp;tbnh=92&amp;tbnw=150&amp;hl=en&amp;start=20&amp;prev=/images%3Fq%3Dmob%26svnum%3D10%26hl%3Den%26lr%3D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llthepages.org/images/blog/thunderstorm.jpg&amp;imgrefurl=http://www.allthepages.org/archives/cat_general.html&amp;h=147&amp;w=200&amp;sz=10&amp;tbnid=Gt44FFM4MBoJ:&amp;tbnh=72&amp;tbnw=99&amp;hl=en&amp;start=2&amp;prev=/images%3Fq%3Dthunderstorm%26svnum%3D10%26hl%3Den%26lr%3D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images.google.com/imgres?imgurl=http://www.puzzlehouse.com/images/webpage/dinosaurs2.jpg&amp;imgrefurl=http://www.puzzlehouse.com/_jigsaws/woodenthumbs1A.htm&amp;h=281&amp;w=400&amp;sz=34&amp;tbnid=AiwcH8GJiOYJ:&amp;tbnh=84&amp;tbnw=120&amp;hl=en&amp;start=1&amp;prev=/images%3Fq%3Ddinosaurs%26svnum%3D10%26hl%3Den%26lr%3D" TargetMode="External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kino.ural.ru/movies/alien_vs_predator/poster4.jpg&amp;imgrefurl=http://kino.ural.ru/movies/alien_vs_predator/&amp;h=1200&amp;w=810&amp;sz=256&amp;tbnid=g2WyADjoV9EJ:&amp;tbnh=150&amp;tbnw=101&amp;hl=en&amp;start=5&amp;prev=/images%3Fq%3Dalien%2Bvs%2Bpredator%26svnum%3D10%26hl%3Den%26lr%3D" TargetMode="External"/><Relationship Id="rId2" Type="http://schemas.openxmlformats.org/officeDocument/2006/relationships/image" Target="../media/image13.jpeg"/><Relationship Id="rId3" Type="http://schemas.openxmlformats.org/officeDocument/2006/relationships/hyperlink" Target="http://images.google.com/imgres?imgurl=http://www.starstore.com/acatalog/Freddy-Jason-headknocker-set.jpg&amp;imgrefurl=http://www.starstore.com/acatalog/Starstore_Catalogue_BOBBLE_HEADS__WACKY_WOBBLERS__HEAD_KNOCKERS_1777.html&amp;h=588&amp;w=430&amp;sz=98&amp;tbnid=tZNxdyp5v4QJ:&amp;tbnh=132&amp;tbnw=96&amp;hl=en&amp;start=23&amp;prev=/images%3Fq%3Dfreddy%2Bvs%2Bjason%26start%3D20%26svnum%3D10%26hl%3Den%26lr%3D%26sa%3DN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lipartheaven.com/clipart/entertainment/drama_%26_film/actor_-_villian.gif&amp;imgrefurl=http://www.clipartheaven.com/clipart/entertainment/drama_%26_film/&amp;h=588&amp;w=489&amp;sz=10&amp;tbnid=JpDVA9V2mk4J:&amp;tbnh=132&amp;tbnw=109&amp;hl=en&amp;start=8&amp;prev=/images%3Fq%3Dvillian%26svnum%3D10%26hl%3Den%26lr%3D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oqz76.dsl.pipex.com/Web%2520Page%2520Components/Wallpaper/Movies/Harry%2520Potter.jpg&amp;imgrefurl=http://www.aoqz76.dsl.pipex.com/Movies.htm&amp;h=768&amp;w=1024&amp;sz=180&amp;tbnid=UgMnuRCQ9FEJ:&amp;tbnh=112&amp;tbnw=150&amp;hl=en&amp;start=10&amp;prev=/images%3Fq%3Dharry%2Bpotter%26svnum%3D10%26hl%3Den%26lr%3D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images.google.com/imgres?imgurl=http://www.eduresources.net/science/general/images/bsa10-bs.jpg&amp;imgrefurl=http://www.eduresources.net/science/general/bsa10.htm&amp;h=214&amp;w=150&amp;sz=17&amp;tbnid=kd16NemIjt0J:&amp;tbnh=101&amp;tbnw=70&amp;hl=en&amp;start=3&amp;prev=/images%3Fq%3Dscience%2Bbooks%26svnum%3D10%26hl%3Den%26lr%3D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projo.com/extra/buddy/images/prosecutor_priest_mob.jpg&amp;imgrefurl=http://www.projo.com/extra/buddy/part_one.htm&amp;h=196&amp;w=350&amp;sz=13&amp;tbnid=V7H8iA4fod8J:&amp;tbnh=64&amp;tbnw=116&amp;hl=en&amp;start=2&amp;prev=/images%3Fq%3Ditalian%2Bmob%26svnum%3D10%26hl%3Den%26lr%3D%26sa%3DG" TargetMode="External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2" Type="http://schemas.openxmlformats.org/officeDocument/2006/relationships/image" Target="../media/image16.jpeg"/><Relationship Id="rId3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4" Type="http://schemas.openxmlformats.org/officeDocument/2006/relationships/image" Target="../media/image16.jpeg"/><Relationship Id="rId5" Type="http://schemas.openxmlformats.org/officeDocument/2006/relationships/hyperlink" Target="http://images.google.com/imgres?imgurl=http://www.cpawscalgary.org/education/images/action-challenge-hero.jpg&amp;imgrefurl=http://www.cpawscalgary.org/education/action-challenge/&amp;h=212&amp;w=186&amp;sz=11&amp;tbnid=1X17wTNHt6EJ:&amp;tbnh=101&amp;tbnw=88&amp;hl=en&amp;start=9&amp;prev=/images%3Fq%3Dhero%26svnum%3D10%26hl%3Den%26lr%3D" TargetMode="External"/><Relationship Id="rId6" Type="http://schemas.openxmlformats.org/officeDocument/2006/relationships/image" Target="../media/image16.jpeg"/><Relationship Id="rId7" Type="http://schemas.openxmlformats.org/officeDocument/2006/relationships/hyperlink" Target="http://images.google.com/imgres?imgurl=http://www.clipartheaven.com/clipart/entertainment/drama_%26_film/actor_-_villian.gif&amp;imgrefurl=http://www.clipartheaven.com/clipart/entertainment/drama_%26_film/&amp;h=588&amp;w=489&amp;sz=10&amp;tbnid=JpDVA9V2mk4J:&amp;tbnh=132&amp;tbnw=109&amp;hl=en&amp;start=8&amp;prev=/images%3Fq%3Dvillian%26svnum%3D10%26hl%3Den%26lr%3D" TargetMode="External"/><Relationship Id="rId8" Type="http://schemas.openxmlformats.org/officeDocument/2006/relationships/image" Target="../media/image15.jpeg"/><Relationship Id="rId9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aoqz76.dsl.pipex.com/Web%2520Page%2520Components/Wallpaper/TV/Homer%2520Simpson%2520Oh%2520No.jpg&amp;imgrefurl=http://www.aoqz76.dsl.pipex.com/TV.htm&amp;h=768&amp;w=1024&amp;sz=56&amp;tbnid=H5ZQzTHCwyUJ:&amp;tbnh=112&amp;tbnw=150&amp;hl=en&amp;start=18&amp;prev=/images%3Fq%3Dhomer%26svnum%3D10%26hl%3Den%26lr%3D" TargetMode="External"/><Relationship Id="rId2" Type="http://schemas.openxmlformats.org/officeDocument/2006/relationships/image" Target="../media/image20.jpeg"/><Relationship Id="rId3" Type="http://schemas.openxmlformats.org/officeDocument/2006/relationships/hyperlink" Target="http://images.google.com/imgres?imgurl=http://www.deeperblue.net/upload/827313675_spongebob.jpg&amp;imgrefurl=http://www.deeperblue.net/article.php/586/13&amp;h=243&amp;w=300&amp;sz=19&amp;tbnid=42Ce-CLPPI4J:&amp;tbnh=89&amp;tbnw=111&amp;hl=en&amp;start=14&amp;prev=/images%3Fq%3Dspongebob%2Bsquare%2Bpants%26svnum%3D10%26hl%3Den%26lr%3D" TargetMode="External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flipsideshow.com/images/President%2520Bush%2520Gestures.jpg&amp;imgrefurl=http://www.flipsideshow.com/Master--I-News%2520Fun.htm&amp;h=384&amp;w=266&amp;sz=41&amp;tbnid=paR_xIhtbR0J:&amp;tbnh=119&amp;tbnw=82&amp;hl=en&amp;start=2&amp;prev=/images%3Fq%3Dpresident%2Bbush%26svnum%3D10%26hl%3Den%26lr%3D" TargetMode="Externa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library.sdsmt.edu/friendsvideos/Rocky%2520(front).jpg&amp;imgrefurl=http://library.sdsmt.edu/AV/afi100k_r.htm&amp;h=1483&amp;w=1082&amp;sz=1682&amp;tbnid=x_m1dnGZYLMJ:&amp;tbnh=150&amp;tbnw=109&amp;hl=en&amp;start=4&amp;prev=/images%3Fq%3Drocky%26svnum%3D10%26hl%3Den%26lr%3D" TargetMode="Externa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160" y="2819160"/>
            <a:ext cx="746748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Engravers MT"/>
              </a:rPr>
              <a:t>E l e m e n t s   o f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Engravers MT"/>
              </a:rPr>
              <a:t>L I t e r a t u r 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886200" y="6095520"/>
            <a:ext cx="464832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rs. Mart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Self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should I do with my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t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iderm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7" descr="batman_batman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352680" y="3352680"/>
            <a:ext cx="274320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0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Society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one believes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Rob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y after Tomorr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yone is against yo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8"/>
          <p:cNvSpPr/>
          <p:nvPr/>
        </p:nvSpPr>
        <p:spPr>
          <a:xfrm>
            <a:off x="2362320" y="4114800"/>
            <a:ext cx="5562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12" descr="M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05120" y="3733920"/>
            <a:ext cx="62481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0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85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1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Na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rson who is fighting against natu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rn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underst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rthquak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n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olc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im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y After Tomo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i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rassic Pa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5" descr="thunderstor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62720" y="2286000"/>
            <a:ext cx="3081240" cy="22417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dinosaurs2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4191120"/>
            <a:ext cx="3235320" cy="226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Fa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your desti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supposed to happe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was meant to b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were chosen for a specific purpo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al Destin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htmare on Elm Stre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rlie and the Chocolate Fact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4" descr="j0138993[1]"/>
          <p:cNvPicPr/>
          <p:nvPr/>
        </p:nvPicPr>
        <p:blipFill>
          <a:blip r:embed="rId1"/>
          <a:stretch/>
        </p:blipFill>
        <p:spPr>
          <a:xfrm>
            <a:off x="6629400" y="0"/>
            <a:ext cx="20210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4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6" dur="8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Man vs. Ma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tagonist (hero) and the antagonist (villian) are figh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people fighting each oth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c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ien vs. Pred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ddy vs. J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poster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3276720"/>
            <a:ext cx="2438640" cy="3259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Freddy-Jason-headknocker-set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838080" y="3581280"/>
            <a:ext cx="2252880" cy="289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fill="hold">
                      <p:stCondLst>
                        <p:cond delay="0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4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2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omplica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the conflicts even har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ead of one tornado there are f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ther is in New York and the son is in Washington which is where the world’s biggest earthquake is about to occur in 14 hou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ther and one month old is missing in a snowstorm (one moth old child as opposed to a five year ol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whole world is against you and so is your grandm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2949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haracteriza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905120" y="2133360"/>
            <a:ext cx="678168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Different Types of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reo-Ty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3429000" y="1219320"/>
            <a:ext cx="50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-How a character beh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7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agonist vs. Antagoni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character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hero/good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poses or is against the protagon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ually the villain/bad gu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8" descr="actor_-_villia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629400" y="4191120"/>
            <a:ext cx="2174760" cy="23288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0" descr="action-challenge-he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371600" y="4340160"/>
            <a:ext cx="219384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8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5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Dynamic vs. Static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ynam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changes/learns/ or grows as a person throughout the plot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DOES NOT change/learn/ or grow as a pers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who stays the same throughout the plot of the s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0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ound vs. Fla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90476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is fully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know A LOT about this charac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71920" y="16002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the readers no pretty much NOTHING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haracter that we only know one or two things ab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7" descr="dd01775_[1]"/>
          <p:cNvPicPr/>
          <p:nvPr/>
        </p:nvPicPr>
        <p:blipFill>
          <a:blip r:embed="rId1"/>
          <a:stretch/>
        </p:blipFill>
        <p:spPr>
          <a:xfrm>
            <a:off x="2438280" y="4343400"/>
            <a:ext cx="1298520" cy="1298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8" descr=""/>
          <p:cNvPicPr/>
          <p:nvPr/>
        </p:nvPicPr>
        <p:blipFill>
          <a:blip r:embed="rId2"/>
          <a:stretch/>
        </p:blipFill>
        <p:spPr>
          <a:xfrm>
            <a:off x="7238880" y="5257800"/>
            <a:ext cx="1041480" cy="127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0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wo Types of Literatur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600200" y="1599840"/>
            <a:ext cx="67816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 marL="226080" indent="-226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90320" indent="-1886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imagined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357560" indent="-1508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ry Potter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5"/>
          <p:cNvSpPr/>
          <p:nvPr/>
        </p:nvSpPr>
        <p:spPr>
          <a:xfrm>
            <a:off x="3429000" y="4038480"/>
            <a:ext cx="4572000" cy="442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n-Fic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tru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iogra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xtbooks                                    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Harry%2520Potter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18200" y="1828800"/>
            <a:ext cx="3025800" cy="22590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9" descr="bsa10-bs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219320" y="4075200"/>
            <a:ext cx="1928520" cy="27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tereo-Typed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05120" y="914040"/>
            <a:ext cx="678168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 general perception of a person based on the society's belie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wrong and it is meant to be humorous or offen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Italians are in the mo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blondes are 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all Hindus own doughn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5" descr="prosecutor_priest_mob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4967280"/>
            <a:ext cx="342720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0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0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arallel vs. Foil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904760" y="9144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all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characters who are the s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ir personalities are the s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333760" y="914400"/>
            <a:ext cx="331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or more characters who are different/ oppo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act completely differ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ways the protagonist and the antagon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7" descr="action-challenge-her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4300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8" descr="action-challenge-hero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81952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9" descr="action-challenge-hero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499520" y="5199120"/>
            <a:ext cx="1644480" cy="16588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0" descr="actor_-_villian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943600" y="5165640"/>
            <a:ext cx="158112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0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2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oibl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5120" y="9907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character’s fla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Homer’s flaw is that he i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u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Sponge Bob Square Pants’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aw is that he is naïve/clu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5" descr="Homer%2520Simpson%2520Oh%2520No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410080" y="2209680"/>
            <a:ext cx="1919520" cy="143352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7" descr="827313675_spongebob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971800" y="4800600"/>
            <a:ext cx="208440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4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356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09120" y="380880"/>
            <a:ext cx="723924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oint of View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057400" y="281952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Narrative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Limited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erson Omniscient Point of 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2971800" y="137160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-How the story is told to the rea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0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st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Narrative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905120" y="1599840"/>
            <a:ext cx="67816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story is told to you (the reader) by a person in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us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problems with this po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people 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story will change depending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time since the story occurr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*only know what they choos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tell 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5" descr="President%2520Bush%2520Gestur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4338720"/>
            <a:ext cx="173700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0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6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2000" fill="hold"/>
                                        <p:tgtEl>
                                          <p:spTgt spid="16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Limited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e watch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y generally focuses on one main character (the protagoni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now everything about ONE charac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5" descr="Rocky%2520(front)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711840" y="3511440"/>
            <a:ext cx="2432160" cy="33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fill="hold">
                      <p:stCondLst>
                        <p:cond delay="0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78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2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3</a:t>
            </a:r>
            <a:r>
              <a:rPr b="0" lang="en-US" sz="3600" spc="-1" strike="noStrike" baseline="30000">
                <a:solidFill>
                  <a:srgbClr val="000000"/>
                </a:solidFill>
                <a:latin typeface="Arial Black"/>
              </a:rPr>
              <a:t>rd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Person Omniscient Point of 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know everything about ALL the charac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focuses on more than one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7" descr="The%2520Lord%2520Of%2520The%2520Rings%2520The%2520Two%2520Towers"/>
          <p:cNvPicPr/>
          <p:nvPr/>
        </p:nvPicPr>
        <p:blipFill>
          <a:blip r:embed="rId1"/>
          <a:stretch/>
        </p:blipFill>
        <p:spPr>
          <a:xfrm>
            <a:off x="4495680" y="3276720"/>
            <a:ext cx="2505240" cy="36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3" dur="indefinite" restart="never" nodeType="tmRoot">
          <p:childTnLst>
            <p:seq>
              <p:cTn id="384" dur="indefinite" nodeType="mainSeq">
                <p:childTnLst>
                  <p:par>
                    <p:cTn id="385" fill="hold">
                      <p:stCondLst>
                        <p:cond delay="0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8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92" dur="2000" fill="hold"/>
                                        <p:tgtEl>
                                          <p:spTgt spid="16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45720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lot Develop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600200" y="26668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osi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iting Incid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s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lling 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3124080" y="1066680"/>
            <a:ext cx="4800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ll the events are tied toge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verything happens for a rea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-everything leads to the next development in the pl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0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398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3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4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5" dur="8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0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1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2" dur="8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24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5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6" dur="8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1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2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3" dur="8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0" dur="8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Exposi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main characters are introduc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tting is describ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exposition is over when the inciting incident happ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4" descr="j0411464[1]"/>
          <p:cNvPicPr/>
          <p:nvPr/>
        </p:nvPicPr>
        <p:blipFill>
          <a:blip r:embed="rId1"/>
          <a:stretch/>
        </p:blipFill>
        <p:spPr>
          <a:xfrm>
            <a:off x="1828800" y="4191120"/>
            <a:ext cx="1844640" cy="20635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5" descr=""/>
          <p:cNvPicPr/>
          <p:nvPr/>
        </p:nvPicPr>
        <p:blipFill>
          <a:blip r:embed="rId2"/>
          <a:stretch/>
        </p:blipFill>
        <p:spPr>
          <a:xfrm>
            <a:off x="4876920" y="4038480"/>
            <a:ext cx="3911400" cy="28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0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nciting Inciden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first action of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begins the plot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the first explo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.e someone is kill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5" descr="explosion"/>
          <p:cNvPicPr/>
          <p:nvPr/>
        </p:nvPicPr>
        <p:blipFill>
          <a:blip r:embed="rId1"/>
          <a:stretch/>
        </p:blipFill>
        <p:spPr>
          <a:xfrm>
            <a:off x="5486400" y="3962520"/>
            <a:ext cx="2641680" cy="25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fill="hold">
                      <p:stCondLst>
                        <p:cond delay="0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57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’s your favorite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Genre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828800" y="3017520"/>
            <a:ext cx="678168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a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yst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ma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e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ience Fi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/>
          <p:cNvSpPr/>
          <p:nvPr/>
        </p:nvSpPr>
        <p:spPr>
          <a:xfrm>
            <a:off x="3048120" y="1219320"/>
            <a:ext cx="49528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ification system that  groups similar i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lit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mu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television sh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3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8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8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8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51,5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" dur="8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ising 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ries of actions that move up to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ons BEFORE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j0361328[1]"/>
          <p:cNvPicPr/>
          <p:nvPr/>
        </p:nvPicPr>
        <p:blipFill>
          <a:blip r:embed="rId1"/>
          <a:stretch/>
        </p:blipFill>
        <p:spPr>
          <a:xfrm>
            <a:off x="3200400" y="3429000"/>
            <a:ext cx="35812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0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6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447920" y="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Climax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905120" y="1295280"/>
            <a:ext cx="67816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-the turning point of the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 things change or the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 character has a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piphany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 ah-ha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ment (finally realize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truth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.e I still love y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i. Protagonist and t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gonist usually figh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j0232446[1]"/>
          <p:cNvPicPr/>
          <p:nvPr/>
        </p:nvPicPr>
        <p:blipFill>
          <a:blip r:embed="rId1"/>
          <a:stretch/>
        </p:blipFill>
        <p:spPr>
          <a:xfrm>
            <a:off x="1752480" y="4952880"/>
            <a:ext cx="1930680" cy="15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7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Falling Actions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eries of actions that move down to the resolu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actions AFTER the clima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j0361328[1]"/>
          <p:cNvPicPr/>
          <p:nvPr/>
        </p:nvPicPr>
        <p:blipFill>
          <a:blip r:embed="rId1"/>
          <a:stretch/>
        </p:blipFill>
        <p:spPr>
          <a:xfrm>
            <a:off x="3124080" y="3429000"/>
            <a:ext cx="358164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2" dur="indefinite" restart="never" nodeType="tmRoot">
          <p:childTnLst>
            <p:seq>
              <p:cTn id="483" dur="indefinite" nodeType="mainSeq">
                <p:childTnLst>
                  <p:par>
                    <p:cTn id="484" fill="hold">
                      <p:stCondLst>
                        <p:cond delay="0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8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Resolution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conflicts are resolv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everything is bet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outcome is cl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end of the plot (act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"/>
          <p:cNvPicPr/>
          <p:nvPr/>
        </p:nvPicPr>
        <p:blipFill>
          <a:blip r:embed="rId1"/>
          <a:stretch/>
        </p:blipFill>
        <p:spPr>
          <a:xfrm>
            <a:off x="3276720" y="3930480"/>
            <a:ext cx="4086000" cy="292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50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-381240" y="304560"/>
            <a:ext cx="8458200" cy="149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://web.cocc.edu/lisal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teraryterms/index.htm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Picture 4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6781680" cy="50292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5" descr="j0406374[1]"/>
          <p:cNvPicPr/>
          <p:nvPr/>
        </p:nvPicPr>
        <p:blipFill>
          <a:blip r:embed="rId2"/>
          <a:stretch/>
        </p:blipFill>
        <p:spPr>
          <a:xfrm>
            <a:off x="7121520" y="0"/>
            <a:ext cx="202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769608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ttp://www.rscc.cc.tn.us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wl&amp;writingcenter/OWL/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Lit.html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6" name="Picture 3" descr=""/>
          <p:cNvPicPr/>
          <p:nvPr/>
        </p:nvPicPr>
        <p:blipFill>
          <a:blip r:embed="rId1"/>
          <a:stretch/>
        </p:blipFill>
        <p:spPr>
          <a:xfrm>
            <a:off x="1676520" y="1905120"/>
            <a:ext cx="6781680" cy="495288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5" descr="j0406374[1]"/>
          <p:cNvPicPr/>
          <p:nvPr/>
        </p:nvPicPr>
        <p:blipFill>
          <a:blip r:embed="rId2"/>
          <a:stretch/>
        </p:blipFill>
        <p:spPr>
          <a:xfrm>
            <a:off x="7121520" y="0"/>
            <a:ext cx="20224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Literature Creates: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tagon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li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racter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ot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S e t t i n g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ed to create a place of time in the reader's 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 lo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.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. ye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. sea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. day of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4"/>
          <p:cNvSpPr/>
          <p:nvPr/>
        </p:nvSpPr>
        <p:spPr>
          <a:xfrm>
            <a:off x="5791320" y="2666880"/>
            <a:ext cx="17524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j0212043[1]"/>
          <p:cNvPicPr/>
          <p:nvPr/>
        </p:nvPicPr>
        <p:blipFill>
          <a:blip r:embed="rId1"/>
          <a:stretch/>
        </p:blipFill>
        <p:spPr>
          <a:xfrm>
            <a:off x="5791320" y="3048120"/>
            <a:ext cx="23461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 r o t a g o n i s 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will present a main character who takes part in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pl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story revolves/focuses on this chara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usually is the good guy/he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4" descr="j0379579[1]"/>
          <p:cNvPicPr/>
          <p:nvPr/>
        </p:nvPicPr>
        <p:blipFill>
          <a:blip r:embed="rId1"/>
          <a:stretch/>
        </p:blipFill>
        <p:spPr>
          <a:xfrm>
            <a:off x="3048120" y="4592520"/>
            <a:ext cx="2809800" cy="226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P l o t 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a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is happening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j0136665[1]"/>
          <p:cNvPicPr/>
          <p:nvPr/>
        </p:nvPicPr>
        <p:blipFill>
          <a:blip r:embed="rId1"/>
          <a:stretch/>
        </p:blipFill>
        <p:spPr>
          <a:xfrm>
            <a:off x="3124080" y="3657600"/>
            <a:ext cx="26910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1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9" dur="2000" fill="hold"/>
                                        <p:tgtEl>
                                          <p:spTgt spid="103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Them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160020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ggests a message about lif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we are supposed to learn from the sto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what is real in the 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ve, death, friendshi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te, pover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47920" y="380880"/>
            <a:ext cx="7238880" cy="103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 h e </a:t>
            </a:r>
            <a:r>
              <a:rPr b="0" i="1" lang="en-US" sz="3600" spc="-1" strike="noStrike">
                <a:solidFill>
                  <a:srgbClr val="000000"/>
                </a:solidFill>
                <a:latin typeface="Arial Black"/>
              </a:rPr>
              <a:t>Six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  C o n f l i c t 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362320" y="1752480"/>
            <a:ext cx="6781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 man vs. sel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man vs. soci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man vs. na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 man vs. f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man vs. m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. Man vs. mach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0T15:06:43Z</dcterms:created>
  <dc:creator>ASD</dc:creator>
  <dc:description/>
  <cp:keywords/>
  <dc:language>en-US</dc:language>
  <cp:lastModifiedBy>Teacher</cp:lastModifiedBy>
  <dcterms:modified xsi:type="dcterms:W3CDTF">2010-06-15T14:00:41Z</dcterms:modified>
  <cp:revision>20</cp:revision>
  <dc:subject/>
  <dc:title>E l e m e n t s   o f  L I t e r a t u r 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731071033</vt:lpwstr>
  </property>
</Properties>
</file>